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DF9-AE72-4EFB-8970-6C0D4806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551-739D-4A9F-8C78-7592DF46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577-8C22-4807-8695-AAE111DE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441-2A65-4914-AD55-2C8D0A4B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E8A-0236-4F7C-9D0C-A1FEBA4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D04-6230-4F7E-9F8A-42BF82E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7B3-BB66-48BC-9FE4-2A06B3E2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FDF-1489-43C8-BB5E-6E476F2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BF7-FCE4-4F02-B486-F5EA29E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058-7EDA-42F9-B4F9-2D221F3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41A-28D2-4F17-A111-78A3EB1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483-C922-41B8-BE10-93D1503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E4D-593F-4C95-B403-AAA7CEE0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1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Which are names for girls, which are names for boy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In which names are these letter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hat are the names of the animal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What are the correct names of the animals?  Read it aloud and then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Solve the puzz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Which animals live in the water, in the forest or in the zoo?  Write you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a.  Match the picture and work.  What is the solu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b.  Which animals in exercise 7 in your text are missing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hich animal names are hidden in the snake?  Write them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Find 13 animal n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0.  Who needs these things?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1.  Write the words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2. Connect the letters in the right or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3.  ABC – Fill in the appropria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4. Match the pictures with the correct letter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udsd</cp:lastModifiedBy>
  <dcterms:modified xsi:type="dcterms:W3CDTF">2009-09-29T17:38:02Z</dcterms:modified>
  <cp:revision>3</cp:revision>
  <dc:subject/>
  <dc:title>Slide 1</dc:title>
</cp:coreProperties>
</file>